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63C-EAD2-41F3-ACBE-6FF558C6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567-C26D-4C0D-BF09-A09DB5BC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7FA-05F4-41A6-B273-D5DC9EF7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CCE-EE93-41BF-9A8B-3A21EF24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B35-AA44-4ACF-883F-4BA3DEE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560-0325-4619-A6A7-8145F630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543-75A2-4BAC-B77C-52D92AA0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6EC-1E3A-481D-ADD7-FD7838DD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161-4D2D-4062-825B-4BC81099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58E-5EDB-45EB-970A-F758A21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759-2E68-4C11-98B4-07771EF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F16-5D78-418B-8380-EC1134B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AF5-5612-4CD1-BACA-DEE1F49EFC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C69DB3D0-A64D-47D2-BB12-2F7B1EC1A6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. 16.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beginn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7.2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(the one)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cerning wh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6.46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υἱος ζῳοποιει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ους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οὑς θε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3B3882B2-3315-486F-95B5-8B48A901C0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 6.2: 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9.18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A0C6618A-2AEA-40EF-9FDF-F00A4F5ED8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6.67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.25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D09D3E68-269E-49ED-8C7F-5B4669B89F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difficult to find any logical reason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question words, they will normally come first in the sentence, which is rare when they occur simply as the negative (and there will also always be a question mark of cour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χ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uke 4.22: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y were saying, 'Isn't this Joseph's so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kill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]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024BD1EB-065E-4B34-90A7-E37E72D30B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025E99C2-7EA2-43B0-8361-DA59AC87A1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id, '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 am the Chr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sai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at he was the Chri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erbs of saying or think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12E3B032-8C43-4E8F-9C98-DAD6AACABD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or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us the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iciple of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ing inverted comma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rk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he used to proclaim (saying), ‘He is coming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Participle of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</a:rPr>
              <a:t>λε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AB766099-ED8E-446B-AA8F-EF5B00945A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ωρω ὁτι προφητης εἶ συ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erent meanings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9871A584-1A20-46F5-AC72-265155C7C4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F2D5EE43-FF85-4C44-9EF8-9A238E951D2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'how long' 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cusa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'during'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en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'at' –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a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or two day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n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uring the 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 or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77E7350F-DF53-44F9-8E2B-B54848E919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he lord sent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messeng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DCD60CF0-D822-4160-BBCA-6A643D7AE7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4C55A235-0445-495E-AADD-1C04AC1038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at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the da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6C6C3C8A-0DE6-42D0-8FAB-49A0A75B2D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hic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hey are keeping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He teaches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AEC60591-86B0-41BE-878F-A4A117D1D9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9A4444F1-165D-49E8-8D45-990C2BE1B7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FE445C73-0149-44EC-9BA9-7EA22E4FF0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B2E98AE1-4ACF-4F37-8348-5D526A24EB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i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B1355D4C-8F66-45C9-91DD-F9CE5CA567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:Grammar </a:t>
            </a:r>
            <a:fld id="{DD1B0079-1519-43FD-A3AF-307D93EE88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to whi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000000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9-07-10T23:48:31Z</dcterms:modified>
  <cp:revision>48</cp:revision>
  <dc:subject/>
  <dc:title>Slide 1</dc:title>
</cp:coreProperties>
</file>